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4C4D-DDE4-4578-A95E-2778B79AEC6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C382-A75A-40E0-8016-0182F877347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8B8E-0A94-4AE4-A0FF-8D79B0A5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279A-D8B9-42DF-A10D-699F02C1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9734-4BA7-42EE-9108-050C9CC1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270C-0535-4858-8E33-227E56BC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7749-A2B7-4125-806B-86C910DD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A33E-07FE-44AE-86BB-7B72CC46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7B96-AD28-4718-8F4E-FF18F996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9025-02BB-4170-9B7B-2BEA76FD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ED61-CE16-4101-8A03-C7B65369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90E6-1768-47DD-9364-04EE5362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7DAE-F048-4EC2-923D-EE6E54F7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ED4B-63B9-4C7D-A0D4-E1F69CE8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D834-B8C3-4237-B749-2B6DFFC2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C95D-454A-43BB-B4A1-D14879BF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7046-99C8-457C-B5ED-7780AD35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226C-96D9-45F6-832A-907C486E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8164-9E71-4E66-96A9-F45FC338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57D4F-1821-490D-8608-FF8A0AF5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51903-0E33-4EBC-9D74-D02A3853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8EFA2-1051-4780-A69B-B13A8AF6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48E82-F5F5-4B91-A2F4-C41000F0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F2A55-4354-4DC8-9104-A3E1136A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5A27-A36F-4B26-AAB2-F25039F1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647B5-0BA7-412A-A3F8-16A6B131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8C211-3529-4DF0-8E70-E66B975E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ED75D-CA16-4AE3-9B56-57AD10B0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68DD5-605F-4835-8B34-572A3341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780F2-E0CD-41C8-AD13-B0BBAE43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410A8-CD44-4FF9-AF3A-E2844139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ECA7D-7C22-4B69-93B1-7A045FC1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C6C92-13F2-45E9-8957-0E1A4E0D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9FC32-2BBC-4E11-A8DB-076E48FE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36BF1-B394-4ED7-942D-BC717659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B5F1-8D0F-4DFE-9289-33319F03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45696-D784-42FA-8A87-6F2B1663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7D076-CE23-4565-B5C9-4473C0E8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9939B-964B-4596-925A-7044EAC0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71B90-A73B-4C6C-A999-C8DFDDA4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7427E-6A4A-4045-9046-0C688E5F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8D74D-01DD-4217-ACFB-E2D9CF65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43EF7-91FE-4047-80E1-094E8BD3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77B82-D563-4BCD-9BBA-A5A9DBF8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A0665-BD89-4204-A052-175BD489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4B92E-27A1-4F3A-891C-34D7C0DC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C4E8-1C57-4B05-97EF-AA099244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3AA4D-1C80-4D10-8DC2-BE4F906B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33528-17E6-45DB-8A91-5A3853D4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8F4AF-6503-4DB8-B0A5-6DA6C37A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2AD20-1C28-41BD-A0F2-1FA7EB3D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BC4DD-02C8-40E0-8164-091ABCDC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3DDDD-ABFE-47A4-9067-10E38082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5FC93-9173-492D-82AD-72CB00CE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C3068-842C-4C68-A696-8F83C50A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0BE1A-F5EB-4030-AFC7-869A69C6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DED47-1E28-4CCC-8E51-A027AF998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8537-D312-4F4B-99B8-2A4B5316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271B1-5FE8-4693-9B72-A38FBAAC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0F238-FAB6-410F-8144-93F47D25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F6FDB-666A-4CAD-8702-A431F9D6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C1559-81B1-414B-893E-50166F6D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C44D9-8FF5-41F3-8D95-525CD6C5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72BFE-1873-4C36-85B1-772B4BA7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DA3C9-4E03-43C3-B90D-602D949F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F19EA-65B2-4943-B111-F33BF648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7069D-463C-4660-8D0D-7EEF00CE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45320-E5DC-402F-942F-B709135E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FBBA-7B56-4747-8CB6-0A4E28BB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3F8E4-0730-41FA-B2E3-690711D3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06BA5-7179-4737-B981-2E26BEB8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D181E-95B6-4094-822D-406B8C16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5E500-0FC7-44C0-8E3E-42CF448F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D3CC6-2DA2-4A50-81AA-307731C8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45BC2-DE7C-44AD-8E6E-EA3F6132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2F9D1-16E9-4101-AA0A-A67B71D2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C3648-7FC3-4087-B5EE-70351E44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61BFA-74FB-4F93-8B7E-44918DFB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12149-BD97-4DDB-BB7B-9D8C0FDF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3B55-2AAD-4C90-99F3-6105D3EB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32F0F-473D-4CCF-BA2F-0C776238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93592-9819-4EA3-B683-1D598661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83709-09A2-48DB-9C71-6C5ADB55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F9524-624E-47EE-B936-BCFBA575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DEEEE-589C-429B-86CD-525355F4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D22C-C3FF-4CF8-A538-70300A48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ff1">
              <a:alpha val="33000"/>
            </a:srgbClr>
          </a:solidFill>
          <a:ln cap="rnd" w="3240">
            <a:solidFill>
              <a:srgbClr val="f0e9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d0"/>
            </a:solidFill>
            <a:miter/>
          </a:ln>
          <a:effectLst>
            <a:outerShdw dist="12600" dir="5400000" blurRad="0" rotWithShape="0">
              <a:srgbClr val="c5c089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D842-7F3A-4C4F-B0F5-23A7DC46E6FD}" type="slidenum">
              <a:rPr b="0" lang="ru-RU" sz="1200" spc="-1" strike="noStrike">
                <a:solidFill>
                  <a:srgbClr val="cfc9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ff1">
              <a:alpha val="33000"/>
            </a:srgbClr>
          </a:solidFill>
          <a:ln cap="rnd" w="3240">
            <a:solidFill>
              <a:srgbClr val="f0e9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d0"/>
            </a:solidFill>
            <a:miter/>
          </a:ln>
          <a:effectLst>
            <a:outerShdw dist="12600" dir="5400000" blurRad="0" rotWithShape="0">
              <a:srgbClr val="c5c089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919f8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7580-E86E-4974-9136-DC4A4D0FA9B2}" type="slidenum">
              <a:rPr b="0" lang="ru-RU" sz="1200" spc="-1" strike="noStrike">
                <a:solidFill>
                  <a:srgbClr val="cfc9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919f8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4D75-1727-4F85-AEF6-2F615A1F245B}" type="slidenum">
              <a:rPr b="0" lang="ru-RU" sz="1200" spc="-1" strike="noStrike">
                <a:solidFill>
                  <a:srgbClr val="cfc9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D450-650D-4E71-8918-C690D28F698B}" type="slidenum">
              <a:rPr b="0" lang="ru-RU" sz="1200" spc="-1" strike="noStrike">
                <a:solidFill>
                  <a:srgbClr val="cfc9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8798-5694-45BE-9A29-A7326F155AC4}" type="slidenum">
              <a:rPr b="0" lang="ru-RU" sz="1200" spc="-1" strike="noStrike">
                <a:solidFill>
                  <a:srgbClr val="cfc9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36D0-39B8-49FE-96C0-F796E6124C64}" type="slidenum">
              <a:rPr b="0" lang="ru-RU" sz="1200" spc="-1" strike="noStrike">
                <a:solidFill>
                  <a:srgbClr val="cfc9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fa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efa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A295-A71B-4EA8-A964-EA776ACA4E1A}" type="slidenum">
              <a:rPr b="0" lang="ru-RU" sz="1200" spc="-1" strike="noStrike">
                <a:solidFill>
                  <a:srgbClr val="cfc9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3356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У “Інститут регіональних досліджень імені М.І.Долішнього </a:t>
            </a:r>
            <a:br>
              <a:rPr sz="2800"/>
            </a:br>
            <a:r>
              <a:rPr b="0" i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Н України”</a:t>
            </a: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6840" y="1197000"/>
            <a:ext cx="8435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cc"/>
                </a:solidFill>
                <a:latin typeface="Times New Roman"/>
              </a:rPr>
              <a:t>Адміністративно-територіальна реформа в Україні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cc"/>
                </a:solidFill>
                <a:latin typeface="Times New Roman"/>
              </a:rPr>
              <a:t>необхідність</a:t>
            </a:r>
            <a:r>
              <a:rPr b="1" lang="en-US" sz="40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uk-UA" sz="4000" spc="-1" strike="noStrike">
                <a:solidFill>
                  <a:srgbClr val="0066cc"/>
                </a:solidFill>
                <a:latin typeface="Times New Roman"/>
              </a:rPr>
              <a:t>та очікування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Петро Жу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старший науковий співробітник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кандидат економічних нау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pzhuk@ukr</a:t>
            </a:r>
            <a:r>
              <a:rPr b="0" lang="uk-UA" sz="28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ne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оугольник 4"/>
          <p:cNvSpPr/>
          <p:nvPr/>
        </p:nvSpPr>
        <p:spPr>
          <a:xfrm>
            <a:off x="611280" y="3645000"/>
            <a:ext cx="8281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1042920" y="115920"/>
            <a:ext cx="1181160" cy="1009440"/>
          </a:xfrm>
          <a:prstGeom prst="rect">
            <a:avLst/>
          </a:prstGeom>
          <a:ln w="0">
            <a:noFill/>
          </a:ln>
        </p:spPr>
      </p:pic>
      <p:sp>
        <p:nvSpPr>
          <p:cNvPr id="329" name="Содержимое 2"/>
          <p:cNvSpPr/>
          <p:nvPr/>
        </p:nvSpPr>
        <p:spPr>
          <a:xfrm>
            <a:off x="539640" y="4221000"/>
            <a:ext cx="82296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8e58b6"/>
                </a:solidFill>
                <a:uFillTx/>
                <a:latin typeface="Times New Roman"/>
              </a:rPr>
              <a:t>Переваги запроваджуваної децентралізованої системи публічної влади:</a:t>
            </a:r>
            <a:endParaRPr b="0" lang="en-US" sz="32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76360" y="155700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Times New Roman"/>
              </a:rPr>
              <a:t>Бюджетна незалежність та управлінська самостійність місцевого самоврядуванн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Times New Roman"/>
              </a:rPr>
              <a:t>Прогресивні підходи до бюджетного вирівнювання та реальне стимулювання наповнення бюджеті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Times New Roman"/>
              </a:rPr>
              <a:t>Нові інвестиційні можливості у розвитку громад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Times New Roman"/>
              </a:rPr>
              <a:t>Зростання суспільно – економічної та політичної ролі місцевого самоврядуван-ня, розвиток демократії та зміцнення держав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8e58b6"/>
                </a:solidFill>
                <a:uFillTx/>
                <a:latin typeface="Times New Roman"/>
              </a:rPr>
              <a:t>ОЧІКУВАНІ РЕЗУЛЬТАТИ АДМІНІСТРАТИВНО-ТЕРИТОРІАЛЬНОЇ РЕФОРМИ</a:t>
            </a:r>
            <a:r>
              <a:rPr b="1" i="1" lang="uk-UA" sz="2400" spc="-1" strike="noStrike" u="sng">
                <a:solidFill>
                  <a:srgbClr val="8e58b6"/>
                </a:solidFill>
                <a:uFillTx/>
                <a:latin typeface="Corbel"/>
              </a:rPr>
              <a:t>:</a:t>
            </a:r>
            <a:endParaRPr b="0" lang="en-US" sz="24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Corbel"/>
              </a:rPr>
              <a:t>Оптимізація системи адміністративно – територіального устрою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Corbel"/>
              </a:rPr>
              <a:t>Ефективніше територіальне управління й територіальний розвиток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Corbel"/>
              </a:rPr>
              <a:t>Реалізація потенціалу саморозвитку громад, підвищення якості публічних послуг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66cc"/>
                </a:solidFill>
                <a:latin typeface="Corbel"/>
              </a:rPr>
              <a:t>П</a:t>
            </a:r>
            <a:r>
              <a:rPr b="1" lang="uk-UA" sz="2800" spc="-1" strike="noStrike">
                <a:solidFill>
                  <a:srgbClr val="0066cc"/>
                </a:solidFill>
                <a:latin typeface="Corbel"/>
              </a:rPr>
              <a:t>оліпшення якості життя населення, імпульс до соціально-економічного розвитку країн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Corbel"/>
              </a:rPr>
              <a:t>Наближення до стандартів європейського співтовариств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116000" y="2133360"/>
            <a:ext cx="7632720" cy="1468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ЯКУЮ ЗА УВАГУ !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8e58b6"/>
                </a:solidFill>
                <a:latin typeface="Times New Roman"/>
              </a:rPr>
              <a:t>Недоліки чинної системи адміністративно – територіального устрою</a:t>
            </a:r>
            <a:br>
              <a:rPr sz="3000"/>
            </a:br>
            <a:br>
              <a:rPr sz="3000"/>
            </a:br>
            <a:r>
              <a:rPr b="1" i="1" lang="uk-UA" sz="24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</a:rPr>
              <a:t>СТРУКТУРНІ НЕДОЛІКИ</a:t>
            </a:r>
            <a:r>
              <a:rPr b="1" i="1" lang="uk-UA" sz="24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0504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впорядкованість системи адміністративно-територіальних одиниць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(</a:t>
            </a: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кладення, розриви, анклави тощо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кремі невідповідності положенням Конституції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начна подрібненість адміністративно-територіальних одиниць первинного рівн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02920" y="115920"/>
            <a:ext cx="74581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uk-UA" sz="2800" spc="-1" strike="noStrike">
                <a:solidFill>
                  <a:srgbClr val="8e58b6"/>
                </a:solidFill>
                <a:latin typeface="Times New Roman"/>
              </a:rPr>
              <a:t>Недоліки чинної системи адміністративно – територіального устрою</a:t>
            </a:r>
            <a:r>
              <a:rPr b="1" i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i="1" lang="uk-UA" sz="24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</a:rPr>
              <a:t>ПРОБЛЕМНІ ПИТАННЯ ФУНКЦІОНУВАННЯ:</a:t>
            </a:r>
            <a:endParaRPr b="0" lang="en-US" sz="24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331640" y="1484280"/>
            <a:ext cx="7561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75000"/>
              </a:lnSpc>
              <a:spcBef>
                <a:spcPts val="400"/>
              </a:spcBef>
              <a:buClr>
                <a:srgbClr val="a5b59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відповідності Європейській хартії місцевого самоврядування: підміна повноважень місцевого самоврядування органами виконавчої влад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75000"/>
              </a:lnSpc>
              <a:spcBef>
                <a:spcPts val="99"/>
              </a:spcBef>
              <a:buClr>
                <a:srgbClr val="a5b59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іжбюджетні диспропорції, висока фінансова залежність місцевого самоврядування від органів державної влад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75000"/>
              </a:lnSpc>
              <a:spcBef>
                <a:spcPts val="99"/>
              </a:spcBef>
              <a:buClr>
                <a:srgbClr val="a5b59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край низький бюджетний потенціал більшості територіальних одиниць первинного рівня, що унеможливлює виконання ними функцій місцевого самоврядуванн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75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7280" y="404280"/>
            <a:ext cx="8748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Концепція реформування місцевого самоврядування та територіальної організації влади в Україні(розпорядження КМУ від 01.04.2014 р.)</a:t>
            </a:r>
            <a:endParaRPr b="0" lang="en-US" sz="24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835344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Проект закону України</a:t>
            </a:r>
            <a:r>
              <a:rPr b="1" i="1" lang="uk-UA" sz="32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  п</a:t>
            </a:r>
            <a:r>
              <a:rPr b="1" i="1" lang="ru-RU" sz="32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ро внесення змін до Конституції  (щодо децентралізації влади)</a:t>
            </a:r>
            <a:r>
              <a:rPr b="0" lang="ru-RU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16000" y="1484280"/>
            <a:ext cx="7818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</a:rPr>
              <a:t>ПОЗИТИВНІ НОВАЦІЇ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Визначено чітку  систему АТУ: регіони, райони, громад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Передбачені виконавчі органи обласних і районних рад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Усунуто підміну місцевими державними адміністра-ціями функцій органів місцевого самоврядуванн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Введено інститут префекта </a:t>
            </a:r>
            <a:r>
              <a:rPr b="1" i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для забезпечення дотримання закону та конституційних принципі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Виключено умову щодо лише добровільного об</a:t>
            </a:r>
            <a:r>
              <a:rPr b="1" lang="en-US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’</a:t>
            </a:r>
            <a:r>
              <a:rPr b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єднання громад та об</a:t>
            </a:r>
            <a:r>
              <a:rPr b="1" lang="en-US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’</a:t>
            </a:r>
            <a:r>
              <a:rPr b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єднання тільки сільських громад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Усунуто ототожнення одиниць системи розселення та адміністративно-територіального устрою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116000" y="765000"/>
            <a:ext cx="7818480" cy="54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</a:rPr>
              <a:t>ПРОПОЗИЦІЇ ЩОДО ЗМІН І ДОПОВНЕНЬ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5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Усунути термінологічну неоднозначність: “громада” (ст. 133), “територіальна громада” (ст. 134) як первинна одиниця в системі АТ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5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Зберегти положення щодо участі держави у формуванні доходів громад, в т.ч. через механізми бюджетного вирівнювання (дотації, субвенції тощо) - ст. 142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5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Утворення та ліквідацію територіальних громад і районів віднести до повноважень  КМУ - ст. 85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3"/>
          <p:cNvSpPr/>
          <p:nvPr/>
        </p:nvSpPr>
        <p:spPr>
          <a:xfrm>
            <a:off x="684360" y="40464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ЗАКОН УКРАЇНИ “ПРО ДОБРОВІЛЬНЕ ОБ</a:t>
            </a:r>
            <a:r>
              <a:rPr b="1" i="1" lang="en-US" sz="28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’</a:t>
            </a:r>
            <a:r>
              <a:rPr b="1" i="1" lang="uk-UA" sz="28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ЄДНАННЯ ТЕРИТОРІАЛЬНИХ ГРОМАД” 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державна підтримка об</a:t>
            </a:r>
            <a:r>
              <a:rPr b="1" i="1" lang="en-US" sz="28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’</a:t>
            </a:r>
            <a:r>
              <a:rPr b="1" i="1" lang="ru-RU" sz="28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єднання громад</a:t>
            </a:r>
            <a:r>
              <a:rPr b="1" i="1" lang="uk-UA" sz="28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Содержимое 2"/>
          <p:cNvSpPr/>
          <p:nvPr/>
        </p:nvSpPr>
        <p:spPr>
          <a:xfrm>
            <a:off x="179280" y="1773360"/>
            <a:ext cx="878544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76120" algn="just">
              <a:lnSpc>
                <a:spcPct val="90000"/>
              </a:lnSpc>
              <a:buClr>
                <a:srgbClr val="0066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lnSpc>
                <a:spcPct val="90000"/>
              </a:lnSpc>
              <a:buClr>
                <a:srgbClr val="0066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Держава здійснює організаційну, методичну та фінансову підтримку об’єднання територіальних гром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lnSpc>
                <a:spcPct val="75000"/>
              </a:lnSpc>
              <a:buClr>
                <a:srgbClr val="0066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Фінансова підтримка</a:t>
            </a:r>
            <a:r>
              <a:rPr b="1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 здійснюється через надання об’єднаній  громаді коштів (субвенцій) на формування інфраструктури згідно з планом її соціально-економічного розвит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lnSpc>
                <a:spcPct val="75000"/>
              </a:lnSpc>
              <a:buClr>
                <a:srgbClr val="0066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Обсяг фінансової підтримки розподіляється між бюджетами об’єднаних територіальних громад пропорційно їх площі та кількості сільського населе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БЮДЖЕТНЕ СТИМУЛЮВАННЯ</a:t>
            </a: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15640" y="1268280"/>
            <a:ext cx="78915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Позитивні новації Бюджетного кодексу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Прямі бюджетні відносини об</a:t>
            </a:r>
            <a:r>
              <a:rPr b="1" lang="en-US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’</a:t>
            </a:r>
            <a:r>
              <a:rPr b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єднаних  територіальних громад з держбюджетом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    </a:t>
            </a:r>
            <a:r>
              <a:rPr b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наділення їх бюджетним статусом на рівні міст обласного значенн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Розширення доходної бази місцевих бюджетів (екологічний податок; збір  від вартості підакцизних товарів, податок на комерційне майно тощо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Гарантовані трансферти (базова дотація, освітня, медична субвенція тощо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Нова система бюджетного вирівнюванн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Отримання коштів з державного фонду регіонального розвитку; субвенції на виконання інвестиційних проекті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1187280" y="620280"/>
            <a:ext cx="7747200" cy="56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Потребують вдосконаленн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Складові доходів місцевих бюджетів та пропорції між державним і місцевими бюджетам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Фінансові нормативи бюджетної  забезпече-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    </a:t>
            </a:r>
            <a:r>
              <a:rPr b="1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ності при визначенні розмірів субвенці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Коригуючі коефіцієнти фінансових норма-тивів бюджетної забезпеченості (не врахову-ють територіальних особливостей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Розподіл повноважень між рівнями АТУ з їх бюджетним забезпечення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5T09:54:07Z</dcterms:created>
  <dc:creator>Олеся</dc:creator>
  <dc:description/>
  <dc:language>en-US</dc:language>
  <cp:lastModifiedBy>Admin</cp:lastModifiedBy>
  <dcterms:modified xsi:type="dcterms:W3CDTF">2015-09-15T13:45:31Z</dcterms:modified>
  <cp:revision>509</cp:revision>
  <dc:subject/>
  <dc:title>Слайд 1</dc:title>
</cp:coreProperties>
</file>